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84B-BD06-45D4-97EA-E7FB6831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17884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46600"/>
            <a:ext cx="817884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D84-0F0C-4AE4-9038-FCA9C3EB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4660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4660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D2F-C0FB-406E-8C19-E9C9DE53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2848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2848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4660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4660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4660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B41-6327-41C3-AF66-E3B0EA69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E14A-CF7A-46D8-8FEE-9DF7E447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BA84-9E99-41AA-A291-9739F658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25AD-FB5A-45C1-B96F-5CC0F97A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947B-7D5E-4A48-AB41-C93A9B82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FF3F-DE28-43F0-A3C3-4CD64E94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150840"/>
            <a:ext cx="7721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DEBC-80F0-4B42-8E7A-7F817585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84660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84BA-5895-49C3-BDAF-8A86287F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30A7-34A1-479A-9509-C5ADD90E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7600" y="384660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0B7D-B9DB-4428-ADF8-7F16C149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46600"/>
            <a:ext cx="817884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DD7A-F87E-4F0E-AB3C-1E11C0DF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17884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846600"/>
            <a:ext cx="817884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1695-1126-4C6B-9073-DE20C0F9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4660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7600" y="384660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1E57-F88B-4FA1-8A77-F17879C9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2360" y="142848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7880" y="142848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84660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2360" y="384660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7880" y="3846600"/>
            <a:ext cx="263340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5B8A-545F-40F5-884C-948E56FF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6E9-EF01-4062-9C0B-DF68A8ED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764-BA94-4FBE-B8BB-938FC252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790-592E-432F-8ACB-E8C0DA5D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50840"/>
            <a:ext cx="7721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336-3105-4E7F-A2F4-A068D334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4660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B36-4048-4CFA-8D8B-3580733E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4660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A8E-2944-4EF5-9A52-2708BCC2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28480"/>
            <a:ext cx="399096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46600"/>
            <a:ext cx="8178840" cy="22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F06-B9E3-453F-97DA-765C12E4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36480" indent="-234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919080" indent="-168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4E8C-0C16-4A99-BFED-7ACA43D23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353880" y="961920"/>
            <a:ext cx="879012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353880" y="961920"/>
            <a:ext cx="8790120" cy="38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paint"/>
          <p:cNvPicPr/>
          <p:nvPr/>
        </p:nvPicPr>
        <p:blipFill>
          <a:blip r:embed="rId3"/>
          <a:stretch/>
        </p:blipFill>
        <p:spPr>
          <a:xfrm>
            <a:off x="353880" y="1835280"/>
            <a:ext cx="879012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9"/>
          <p:cNvSpPr/>
          <p:nvPr/>
        </p:nvSpPr>
        <p:spPr>
          <a:xfrm>
            <a:off x="6862680" y="6288120"/>
            <a:ext cx="365040" cy="365040"/>
          </a:xfrm>
          <a:custGeom>
            <a:avLst/>
            <a:gdLst>
              <a:gd name="textAreaLeft" fmla="*/ 23400 w 365040"/>
              <a:gd name="textAreaRight" fmla="*/ 341640 w 36504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7434360" y="6288120"/>
            <a:ext cx="365040" cy="365040"/>
          </a:xfrm>
          <a:custGeom>
            <a:avLst/>
            <a:gdLst>
              <a:gd name="textAreaLeft" fmla="*/ 23400 w 365040"/>
              <a:gd name="textAreaRight" fmla="*/ 341640 w 36504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II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8007480" y="6288120"/>
            <a:ext cx="365040" cy="365040"/>
          </a:xfrm>
          <a:custGeom>
            <a:avLst/>
            <a:gdLst>
              <a:gd name="textAreaLeft" fmla="*/ 23400 w 365040"/>
              <a:gd name="textAreaRight" fmla="*/ 341640 w 36504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III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AutoShape 13"/>
          <p:cNvSpPr/>
          <p:nvPr/>
        </p:nvSpPr>
        <p:spPr>
          <a:xfrm>
            <a:off x="8580600" y="6288120"/>
            <a:ext cx="365040" cy="365040"/>
          </a:xfrm>
          <a:custGeom>
            <a:avLst/>
            <a:gdLst>
              <a:gd name="textAreaLeft" fmla="*/ 23400 w 365040"/>
              <a:gd name="textAreaRight" fmla="*/ 341640 w 365040"/>
              <a:gd name="textAreaTop" fmla="*/ 23400 h 365040"/>
              <a:gd name="textAreaBottom" fmla="*/ 341640 h 36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IV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36480" indent="-234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919080" indent="-168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96D8-3458-4A85-805A-B6A8A4C9843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056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Unit 2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 Black"/>
              </a:rPr>
              <a:t>Section C.4</a:t>
            </a:r>
            <a:endParaRPr b="0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4419360"/>
            <a:ext cx="914400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Composition of Material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Practice Problems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50.0-gram sample of ore contains 5.00g of lead(III)sulfate, Pb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a) What is the % metal in PbSO</a:t>
            </a:r>
            <a:r>
              <a:rPr b="0" lang="en-US" sz="3200" spc="-1" strike="noStrike" baseline="-25000">
                <a:solidFill>
                  <a:srgbClr val="66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b) What is the percent PbSO</a:t>
            </a:r>
            <a:r>
              <a:rPr b="0" lang="en-US" sz="3200" spc="-1" strike="noStrike" baseline="-25000">
                <a:solidFill>
                  <a:srgbClr val="66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in the </a:t>
            </a:r>
            <a:r>
              <a:rPr b="0" i="1" lang="en-US" sz="3200" spc="-1" strike="noStrike">
                <a:solidFill>
                  <a:srgbClr val="66ffff"/>
                </a:solidFill>
                <a:latin typeface="Arial"/>
              </a:rPr>
              <a:t>ore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Practice Problems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50.0-gram sample of ore contains 5.00g of lead(III)sulfate, Pb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c) What is the percent Pb in the total ore sampl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Practice Problems</a:t>
            </a: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ich mineral would be most profitable to mine for chromium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eCr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, PbCr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, or Cr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% Composition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70000" indent="-270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rcent composition: (def)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ercent </a:t>
            </a:r>
            <a:r>
              <a:rPr b="1" i="1" lang="en-US" sz="3200" spc="-1" strike="noStrike">
                <a:solidFill>
                  <a:srgbClr val="66ffff"/>
                </a:solidFill>
                <a:latin typeface="Arial"/>
              </a:rPr>
              <a:t>by mass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 of each material found in an i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ercent composition helps geologists describe how much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metal or mineral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is present in a particular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ore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hey can evaluate if the metal should even be mine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Common Copper-containing minerals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2720" indent="-252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calculate the % of Cu in each miner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559800" indent="-206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mass of Cu in compound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x 1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559800" indent="-206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tal mass of compou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52720" indent="-252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u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52720" indent="-252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mass of Cu in compound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: 63.55g x 2 =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252720" indent="-252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127.1 g Cu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252720" indent="-252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total mass of compound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252720" indent="-252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(63.55 g x 2) + 32.07 g = 159.17 g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252720" indent="-252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% Cu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= (127.1g/159.17g) x 100 = </a:t>
            </a:r>
            <a:r>
              <a:rPr b="0" lang="en-US" sz="3000" spc="-1" strike="noStrike">
                <a:solidFill>
                  <a:srgbClr val="ffff59"/>
                </a:solidFill>
                <a:latin typeface="Arial"/>
              </a:rPr>
              <a:t>79.85% Cu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84582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Copper-containing minerals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uFeS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mass Cu: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63.55 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mass of compound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63.55 g + 55.85 g + (32.07g x 2) = 183.54 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%Cu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63.55 g Cu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x 100 = </a:t>
            </a:r>
            <a:r>
              <a:rPr b="0" lang="en-US" sz="2800" spc="-1" strike="noStrike">
                <a:solidFill>
                  <a:srgbClr val="ffff59"/>
                </a:solidFill>
                <a:latin typeface="Arial"/>
              </a:rPr>
              <a:t>34.62% Cu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83.54 g comp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Copper-Containing minerals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16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70000" indent="-270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u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OH)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59"/>
                </a:solidFill>
                <a:latin typeface="Arial"/>
              </a:rPr>
              <a:t>mass Cu in compound: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63.55 g x 2 = 127.1 g Cu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59"/>
                </a:solidFill>
                <a:latin typeface="Arial"/>
              </a:rPr>
              <a:t>total mass of compound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63.55 g x 2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12.01g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16.00g x 3)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%Cu =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127.1 g Cu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= 57.48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16.00g x 2)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221.13 g total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+  (1.01 g x 2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221.13 g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267080" y="4495680"/>
            <a:ext cx="4648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Rounded Rectangle 4"/>
          <p:cNvSpPr/>
          <p:nvPr/>
        </p:nvSpPr>
        <p:spPr>
          <a:xfrm>
            <a:off x="4267080" y="4419720"/>
            <a:ext cx="464832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505320" y="3886200"/>
            <a:ext cx="5638680" cy="19810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Mining a Metal Ore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wo factors to consider when deciding whether it’s worthwhile to mine a particular or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1) percent of mineral in the o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2) percent of metal in the miner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686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Black"/>
              </a:rPr>
              <a:t>Picture to Relate % Metal in Ore</a:t>
            </a:r>
            <a:endParaRPr b="0" lang="en-US" sz="36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mount of Cu in ore containing 10% chalcocite (Cu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Percent Comp. Practice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87280" indent="-287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0840"/>
            <a:ext cx="772164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Black"/>
              </a:rPr>
              <a:t>Practice Problems</a:t>
            </a:r>
            <a:endParaRPr b="0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428480"/>
            <a:ext cx="81788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3:22:16Z</dcterms:created>
  <dc:creator>Great Valley High School</dc:creator>
  <dc:description/>
  <dc:language>en-US</dc:language>
  <cp:lastModifiedBy>Great Valley High School</cp:lastModifiedBy>
  <dcterms:modified xsi:type="dcterms:W3CDTF">2009-02-17T18:33:12Z</dcterms:modified>
  <cp:revision>26</cp:revision>
  <dc:subject/>
  <dc:title>Slide 1</dc:title>
</cp:coreProperties>
</file>